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671D-5665-46FA-8AD9-7C8DDCC8489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BB4D-48C8-42C8-B8AE-4BEF04F14438}" type="slidenum">
              <a:rPr b="0" lang="it-IT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E49-6B72-406E-9FC5-5E800020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A5C-EDA0-4E4D-95D1-7F04E214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447-A82F-4640-9913-26D03277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579-2B45-4D72-B4C5-C47E2C21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EA93-E93B-4027-B991-11AB749A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979E-5C8A-45FC-A278-7CAF06D6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EB87-3D9A-459E-9A80-9A52AB1C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7966-8407-4E0D-BC2A-E8C605AF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2327-84F5-4438-9B82-45575DC8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50A7-4B35-4022-A715-8F89882F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7E88-7772-4E17-91E9-458DC2B9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FDE-F0A3-4D2F-A79C-01EFC24C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1F92-67BF-4592-B209-EC6AF074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058A-9CE3-459A-91FE-6E83EF2F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B6DD-84D7-4293-B337-A4F2A776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254C-2473-4202-AE86-5F4E85AB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E959-6620-4624-B4E5-1A5702F4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923-088C-4D3A-9140-ACB3E9FC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DB5-8A8C-467B-ADEA-6AEDB252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DE0-345A-442F-9B13-6AA66BCE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8E1-E16F-4355-A6DD-550382D4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3E4-2633-4DA6-B750-83C16ACB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066-01C9-4EFC-B71B-43AA3A15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126D-4FAE-431F-ACEF-F1307B04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0EEF-010F-4E23-B97A-BEE4B6673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98F1-B036-4902-9572-8777083C8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l Futuro y El Condicional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I. Verbos regula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Repase el siguiente esquem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4920" y="2438280"/>
          <a:ext cx="8458200" cy="342900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0560"/>
                <a:gridCol w="1692360"/>
                <a:gridCol w="1692360"/>
              </a:tblGrid>
              <a:tr h="542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     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uturo                Condic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él/ella/U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sotros(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osotros (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llos/ellas/ud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l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l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l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l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lar</a:t>
                      </a:r>
                      <a:r>
                        <a:rPr b="0" lang="es-ES_tradnl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é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l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r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é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ar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a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er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er 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í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Box 1"/>
          <p:cNvSpPr/>
          <p:nvPr/>
        </p:nvSpPr>
        <p:spPr>
          <a:xfrm>
            <a:off x="2399400" y="601992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dos los verbos del condicional 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rminan con -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í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4" name="Straight Arrow Connector 5"/>
          <p:cNvCxnSpPr/>
          <p:nvPr/>
        </p:nvCxnSpPr>
        <p:spPr>
          <a:xfrm flipV="1">
            <a:off x="6095520" y="5333760"/>
            <a:ext cx="38196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Straight Arrow Connector 7"/>
          <p:cNvCxnSpPr/>
          <p:nvPr/>
        </p:nvCxnSpPr>
        <p:spPr>
          <a:xfrm flipV="1">
            <a:off x="6095520" y="5333760"/>
            <a:ext cx="221076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raíz del futuro y del condicional es el infinitivo completo: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er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se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/ se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; ir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/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; vivir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viv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/viv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bserve que las terminaciones del futuro y condicional son las mismas de los tiempos ya estudiados para todas las personas: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-mos = nosotros, -s = tú, -n = ellos/ellas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7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n el futuro todas las personas llevan acento escrito excepto la primera personal plural (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</a:rPr>
              <a:t>nosotro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):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seremos, iremo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terminación del condicional es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–í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, que es la misma del imperfecto (past) de los verbos en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–er, -i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  (La /i/ van con acento escrito en todas las personal para romper el diptong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II.  Verbos irregulares y deriv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1532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Hay solamente doce (12) verbos irregulares en el futuro y condicional.  Son irregulares porque pierden la vocal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o la vocal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del infinitivo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–er, -ir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1009800" indent="-609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jemplos: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sab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0" i="1" lang="es-E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n lugar de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sabe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; podría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en lugar de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 pode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1009800" indent="-609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ara algunos verbos se añade (add) una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d: vendré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en lugar de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veni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; sald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en lugar de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saliría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1009800" indent="-609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Aquí está la lista completa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050840" y="3618000"/>
            <a:ext cx="374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b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cab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cab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ci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i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 di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b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hab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 hab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ha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 ha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d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o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po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n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on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pon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937040" y="3594240"/>
            <a:ext cx="329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r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quer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 quer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ab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ab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sab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ali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al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sal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n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en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ten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e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al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val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nir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en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vendr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3014280" y="609588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le agrega una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Straight Arrow Connector 3"/>
          <p:cNvCxnSpPr/>
          <p:nvPr/>
        </p:nvCxnSpPr>
        <p:spPr>
          <a:xfrm flipH="1" flipV="1">
            <a:off x="2590200" y="5333760"/>
            <a:ext cx="61020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bserve que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hacer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deci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son los más irregulares, pues pierden una sílaba completa: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cir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d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/d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, hacer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ha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/ha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verbos compuestos sufren los mismos cambios de los verbos simp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uponer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upond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; mantener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mantend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; satisface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atisfa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3143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ote que los compuestos de decir son regulares: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maldeci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maldec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/ maldec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, predecir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predec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; bendeci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bendecir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III.  Usos del futuro y condi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 futuro se utiliza para hacer predicciones, y el condicional se usa para hablar de situaciones hipotéticas.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EJS:  Este año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tend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ás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 dificultades económicas.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¡Qué hambre tengo!. Me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come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un bocata de tortilla  pero en el bar solo quedan de jamón y queso.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xisten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</a:rPr>
              <a:t>tres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(3) formas diferentes de indicar una acción futura o venidera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ESENTE DE INDICATIVO: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Salimos mañana 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para México</a:t>
            </a:r>
            <a:r>
              <a:rPr b="0" i="1" lang="es-E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(Común en todo el mundo de habla hispana.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Ir A + INFINITIVO: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Vamos a salir mañana 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para México.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 (Forma más común en Hispanoamérica.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FORMAS DEL FUTURO: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Sald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emos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mañana para México.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(Más común en España.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Futuro y condicional de probabilid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 futuro se usa también para indicar probabilidad de una acción o estado en el momento actua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J. 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José no está aquí. 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Esta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á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 enferm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 condicional se usa para indicar probabilidad de una acción o estado en el pasado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1520" indent="-292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J. 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José no vino ayer.  </a:t>
            </a:r>
            <a:r>
              <a:rPr b="1" i="1" lang="es-ES" sz="1600" spc="-1" strike="noStrike">
                <a:solidFill>
                  <a:srgbClr val="000000"/>
                </a:solidFill>
                <a:latin typeface="Comic Sans MS"/>
              </a:rPr>
              <a:t>Estar</a:t>
            </a:r>
            <a:r>
              <a:rPr b="1" i="1" lang="es-ES" sz="16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 enfermo.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l condicional se usa como fórmula de cortesía en lugar del presente de indicativo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J.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Quer</a:t>
            </a:r>
            <a:r>
              <a:rPr b="1" i="1" lang="es-ES" sz="24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hablar con el dueñ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l condicional se usa para hacer sugerencias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J. 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 sé que le pasa a Juan. Creo que está enfadado conmi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Yo en tu lugar, hablar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í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con é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IV. FUTURO PERFEC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 forma con el futuro del verbo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haber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ás el participio ( habré / habrás…..+ cantado / comido/ vivido).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 usa par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ara formular hipótesis sobre el pasado vinculado con el prese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pe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ha id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 ver a Lucía (lo sé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pe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habrá id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 ver a Lucía ( lo supong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ara predecir el pasado del futuro.  Se habla de acciones que estarán terminadas en el momento del futuro del que hablam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añana a las once ya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habré terminad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examen de inglé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V. CONDICIONAL COMPUESTO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 forma con el condicional del verbo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haber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ás el participio ( habría / habrías…..+ cantado / comido/ vivido). Se usa par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ara formular hipótesis sobre el pasado del pas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pudo llamar porque le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habías dad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número  equivocado (afirm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habrías dad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número equivocado y no pudo llam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ara evocar situaciones hipotéticas o hechos que no tuvieron lugar en el pasado ya que no se dieron las condiciones necesari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e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habría gustad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ue Juan me hubiera invitado a la fiesta. ( pero no me invitó y la fiesta ya pasó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3:44:24Z</dcterms:created>
  <dc:creator>Alliance For College-Ready Preparation Schools</dc:creator>
  <dc:description/>
  <dc:language>en-US</dc:language>
  <cp:lastModifiedBy>Susana</cp:lastModifiedBy>
  <dcterms:modified xsi:type="dcterms:W3CDTF">2015-04-29T08:09:47Z</dcterms:modified>
  <cp:revision>26</cp:revision>
  <dc:subject/>
  <dc:title>El Futuro y El Condicional </dc:title>
</cp:coreProperties>
</file>